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C3E-348E-4A9B-B60A-B47E0798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EA6-D32C-4BE9-93F1-D009EBE5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A74-85B9-4E20-A2FC-542E0A05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08B-CA19-46C4-97DE-FDB9E152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562-F763-4B7E-A14A-CE22EE0D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FE3-E02A-4A03-BD5E-39AE863A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8C6-1D0D-45BC-8C1B-09FDB4AA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3A9-2BF9-48CD-AED9-8070474A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10D-FFC4-443F-A60D-3B54D658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1F8-E54B-452F-8ECD-D733ED3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41A-B96E-4F77-88A5-89CE7FEC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A28-63C3-4A8E-AFB9-7078640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A829-6C24-4594-807D-FA922FD8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slide" Target="slide4.xml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" Target="slide1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slide" Target="slide5.xml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ycieczka po Kotlinie Kłodzkiej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5-17 czerwca 2003 ro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57200" y="2666880"/>
            <a:ext cx="2438280" cy="609840"/>
          </a:xfrm>
          <a:custGeom>
            <a:avLst/>
            <a:gdLst>
              <a:gd name="textAreaLeft" fmla="*/ 39240 w 2438280"/>
              <a:gd name="textAreaRight" fmla="*/ 2399040 w 24382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6324" h="21600">
                <a:moveTo>
                  <a:pt x="0" y="0"/>
                </a:moveTo>
                <a:lnTo>
                  <a:pt x="86324" y="0"/>
                </a:lnTo>
                <a:lnTo>
                  <a:pt x="86324" y="21600"/>
                </a:lnTo>
                <a:lnTo>
                  <a:pt x="0" y="21600"/>
                </a:lnTo>
                <a:close/>
              </a:path>
              <a:path fill="lightenLess" w="86324" h="21600">
                <a:moveTo>
                  <a:pt x="0" y="0"/>
                </a:moveTo>
                <a:lnTo>
                  <a:pt x="86324" y="0"/>
                </a:lnTo>
                <a:lnTo>
                  <a:pt x="84924" y="1400"/>
                </a:lnTo>
                <a:lnTo>
                  <a:pt x="1400" y="1400"/>
                </a:lnTo>
                <a:close/>
              </a:path>
              <a:path fill="darken" w="86324" h="21600">
                <a:moveTo>
                  <a:pt x="86324" y="0"/>
                </a:moveTo>
                <a:lnTo>
                  <a:pt x="86324" y="21600"/>
                </a:lnTo>
                <a:lnTo>
                  <a:pt x="84924" y="20200"/>
                </a:lnTo>
                <a:lnTo>
                  <a:pt x="84924" y="1400"/>
                </a:lnTo>
                <a:close/>
              </a:path>
              <a:path fill="darkenLess" w="86324" h="21600">
                <a:moveTo>
                  <a:pt x="86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4" y="20200"/>
                </a:lnTo>
                <a:close/>
              </a:path>
              <a:path fill="lighten" w="86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920" y="2057400"/>
            <a:ext cx="2743200" cy="4190760"/>
            <a:chOff x="304920" y="2057400"/>
            <a:chExt cx="2743200" cy="4190760"/>
          </a:xfrm>
        </p:grpSpPr>
        <p:sp>
          <p:nvSpPr>
            <p:cNvPr id="45" name=""/>
            <p:cNvSpPr/>
            <p:nvPr/>
          </p:nvSpPr>
          <p:spPr>
            <a:xfrm>
              <a:off x="304920" y="2260080"/>
              <a:ext cx="2743200" cy="39880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2057400"/>
              <a:ext cx="1066680" cy="33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MEN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57200" y="3581280"/>
            <a:ext cx="2438280" cy="609840"/>
          </a:xfrm>
          <a:custGeom>
            <a:avLst/>
            <a:gdLst>
              <a:gd name="textAreaLeft" fmla="*/ 39240 w 2438280"/>
              <a:gd name="textAreaRight" fmla="*/ 2399040 w 24382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6324" h="21600">
                <a:moveTo>
                  <a:pt x="0" y="0"/>
                </a:moveTo>
                <a:lnTo>
                  <a:pt x="86324" y="0"/>
                </a:lnTo>
                <a:lnTo>
                  <a:pt x="86324" y="21600"/>
                </a:lnTo>
                <a:lnTo>
                  <a:pt x="0" y="21600"/>
                </a:lnTo>
                <a:close/>
              </a:path>
              <a:path fill="lightenLess" w="86324" h="21600">
                <a:moveTo>
                  <a:pt x="0" y="0"/>
                </a:moveTo>
                <a:lnTo>
                  <a:pt x="86324" y="0"/>
                </a:lnTo>
                <a:lnTo>
                  <a:pt x="84924" y="1400"/>
                </a:lnTo>
                <a:lnTo>
                  <a:pt x="1400" y="1400"/>
                </a:lnTo>
                <a:close/>
              </a:path>
              <a:path fill="darken" w="86324" h="21600">
                <a:moveTo>
                  <a:pt x="86324" y="0"/>
                </a:moveTo>
                <a:lnTo>
                  <a:pt x="86324" y="21600"/>
                </a:lnTo>
                <a:lnTo>
                  <a:pt x="84924" y="20200"/>
                </a:lnTo>
                <a:lnTo>
                  <a:pt x="84924" y="1400"/>
                </a:lnTo>
                <a:close/>
              </a:path>
              <a:path fill="darkenLess" w="86324" h="21600">
                <a:moveTo>
                  <a:pt x="86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4" y="20200"/>
                </a:lnTo>
                <a:close/>
              </a:path>
              <a:path fill="lighten" w="86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SZTOR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457200" y="4495680"/>
            <a:ext cx="2438280" cy="609840"/>
          </a:xfrm>
          <a:custGeom>
            <a:avLst/>
            <a:gdLst>
              <a:gd name="textAreaLeft" fmla="*/ 39240 w 2438280"/>
              <a:gd name="textAreaRight" fmla="*/ 2399040 w 24382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6324" h="21600">
                <a:moveTo>
                  <a:pt x="0" y="0"/>
                </a:moveTo>
                <a:lnTo>
                  <a:pt x="86324" y="0"/>
                </a:lnTo>
                <a:lnTo>
                  <a:pt x="86324" y="21600"/>
                </a:lnTo>
                <a:lnTo>
                  <a:pt x="0" y="21600"/>
                </a:lnTo>
                <a:close/>
              </a:path>
              <a:path fill="lightenLess" w="86324" h="21600">
                <a:moveTo>
                  <a:pt x="0" y="0"/>
                </a:moveTo>
                <a:lnTo>
                  <a:pt x="86324" y="0"/>
                </a:lnTo>
                <a:lnTo>
                  <a:pt x="84924" y="1400"/>
                </a:lnTo>
                <a:lnTo>
                  <a:pt x="1400" y="1400"/>
                </a:lnTo>
                <a:close/>
              </a:path>
              <a:path fill="darken" w="86324" h="21600">
                <a:moveTo>
                  <a:pt x="86324" y="0"/>
                </a:moveTo>
                <a:lnTo>
                  <a:pt x="86324" y="21600"/>
                </a:lnTo>
                <a:lnTo>
                  <a:pt x="84924" y="20200"/>
                </a:lnTo>
                <a:lnTo>
                  <a:pt x="84924" y="1400"/>
                </a:lnTo>
                <a:close/>
              </a:path>
              <a:path fill="darkenLess" w="86324" h="21600">
                <a:moveTo>
                  <a:pt x="86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4" y="20200"/>
                </a:lnTo>
                <a:close/>
              </a:path>
              <a:path fill="lighten" w="86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IEKAWE MIEJS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457200" y="5334120"/>
            <a:ext cx="2438280" cy="609480"/>
          </a:xfrm>
          <a:custGeom>
            <a:avLst/>
            <a:gdLst>
              <a:gd name="textAreaLeft" fmla="*/ 39240 w 2438280"/>
              <a:gd name="textAreaRight" fmla="*/ 2399040 w 2438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YJŚ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1722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lasa III „B” PG nr 2 w Opolu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733920" y="2514600"/>
            <a:ext cx="48006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86240" y="619200"/>
            <a:ext cx="5505480" cy="601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152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SA WYCIE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468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838080"/>
            <a:ext cx="34290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łodz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letno                    (Jaskinia Niedźwiedz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iędzygórze                   (Ogród Baj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arłów (Szczelini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łędne Skał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udowa Zdrój (Czerm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uszniki Zdró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ambierzy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152280" y="6095880"/>
            <a:ext cx="1295640" cy="609840"/>
          </a:xfrm>
          <a:prstGeom prst="leftArrow">
            <a:avLst>
              <a:gd name="adj1" fmla="val 61454"/>
              <a:gd name="adj2" fmla="val 8253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2616120"/>
            <a:ext cx="3738600" cy="2673360"/>
          </a:xfrm>
          <a:custGeom>
            <a:avLst/>
            <a:gdLst/>
            <a:ahLst/>
            <a:rect l="l" t="t" r="r" b="b"/>
            <a:pathLst>
              <a:path w="2355" h="1684">
                <a:moveTo>
                  <a:pt x="1613" y="389"/>
                </a:moveTo>
                <a:lnTo>
                  <a:pt x="1599" y="580"/>
                </a:lnTo>
                <a:lnTo>
                  <a:pt x="1578" y="683"/>
                </a:lnTo>
                <a:lnTo>
                  <a:pt x="1640" y="837"/>
                </a:lnTo>
                <a:lnTo>
                  <a:pt x="1606" y="957"/>
                </a:lnTo>
                <a:lnTo>
                  <a:pt x="1599" y="1050"/>
                </a:lnTo>
                <a:lnTo>
                  <a:pt x="1592" y="1223"/>
                </a:lnTo>
                <a:lnTo>
                  <a:pt x="1556" y="1252"/>
                </a:lnTo>
                <a:lnTo>
                  <a:pt x="1656" y="1328"/>
                </a:lnTo>
                <a:lnTo>
                  <a:pt x="1768" y="1396"/>
                </a:lnTo>
                <a:lnTo>
                  <a:pt x="1840" y="1392"/>
                </a:lnTo>
                <a:lnTo>
                  <a:pt x="1908" y="1412"/>
                </a:lnTo>
                <a:lnTo>
                  <a:pt x="1960" y="1424"/>
                </a:lnTo>
                <a:lnTo>
                  <a:pt x="2040" y="1420"/>
                </a:lnTo>
                <a:lnTo>
                  <a:pt x="2124" y="1440"/>
                </a:lnTo>
                <a:lnTo>
                  <a:pt x="2220" y="1424"/>
                </a:lnTo>
                <a:lnTo>
                  <a:pt x="2236" y="1388"/>
                </a:lnTo>
                <a:lnTo>
                  <a:pt x="2336" y="1272"/>
                </a:lnTo>
                <a:lnTo>
                  <a:pt x="2355" y="1421"/>
                </a:lnTo>
                <a:lnTo>
                  <a:pt x="2301" y="1503"/>
                </a:lnTo>
                <a:lnTo>
                  <a:pt x="2164" y="1568"/>
                </a:lnTo>
                <a:lnTo>
                  <a:pt x="1984" y="1684"/>
                </a:lnTo>
                <a:lnTo>
                  <a:pt x="1864" y="1680"/>
                </a:lnTo>
                <a:lnTo>
                  <a:pt x="1748" y="1636"/>
                </a:lnTo>
                <a:lnTo>
                  <a:pt x="1644" y="1596"/>
                </a:lnTo>
                <a:lnTo>
                  <a:pt x="1608" y="1496"/>
                </a:lnTo>
                <a:lnTo>
                  <a:pt x="1556" y="1288"/>
                </a:lnTo>
                <a:lnTo>
                  <a:pt x="1520" y="1228"/>
                </a:lnTo>
                <a:lnTo>
                  <a:pt x="1416" y="1132"/>
                </a:lnTo>
                <a:lnTo>
                  <a:pt x="1371" y="1089"/>
                </a:lnTo>
                <a:lnTo>
                  <a:pt x="1288" y="888"/>
                </a:lnTo>
                <a:lnTo>
                  <a:pt x="1128" y="804"/>
                </a:lnTo>
                <a:lnTo>
                  <a:pt x="1068" y="616"/>
                </a:lnTo>
                <a:lnTo>
                  <a:pt x="1048" y="480"/>
                </a:lnTo>
                <a:lnTo>
                  <a:pt x="870" y="509"/>
                </a:lnTo>
                <a:lnTo>
                  <a:pt x="768" y="544"/>
                </a:lnTo>
                <a:lnTo>
                  <a:pt x="540" y="576"/>
                </a:lnTo>
                <a:lnTo>
                  <a:pt x="440" y="608"/>
                </a:lnTo>
                <a:lnTo>
                  <a:pt x="316" y="528"/>
                </a:lnTo>
                <a:lnTo>
                  <a:pt x="204" y="536"/>
                </a:lnTo>
                <a:lnTo>
                  <a:pt x="96" y="440"/>
                </a:lnTo>
                <a:lnTo>
                  <a:pt x="60" y="396"/>
                </a:lnTo>
                <a:lnTo>
                  <a:pt x="50" y="373"/>
                </a:lnTo>
                <a:lnTo>
                  <a:pt x="0" y="262"/>
                </a:lnTo>
                <a:lnTo>
                  <a:pt x="103" y="354"/>
                </a:lnTo>
                <a:lnTo>
                  <a:pt x="251" y="267"/>
                </a:lnTo>
                <a:lnTo>
                  <a:pt x="387" y="254"/>
                </a:lnTo>
                <a:lnTo>
                  <a:pt x="348" y="193"/>
                </a:lnTo>
                <a:lnTo>
                  <a:pt x="602" y="193"/>
                </a:lnTo>
                <a:lnTo>
                  <a:pt x="481" y="83"/>
                </a:lnTo>
                <a:lnTo>
                  <a:pt x="633" y="32"/>
                </a:lnTo>
                <a:lnTo>
                  <a:pt x="684" y="0"/>
                </a:lnTo>
                <a:lnTo>
                  <a:pt x="848" y="8"/>
                </a:lnTo>
                <a:lnTo>
                  <a:pt x="868" y="92"/>
                </a:lnTo>
                <a:lnTo>
                  <a:pt x="908" y="136"/>
                </a:lnTo>
                <a:lnTo>
                  <a:pt x="860" y="179"/>
                </a:lnTo>
                <a:lnTo>
                  <a:pt x="862" y="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152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SZTOR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609480"/>
          <a:ext cx="8229600" cy="583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8229600" cy="58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152280" y="6095880"/>
            <a:ext cx="1295640" cy="609840"/>
          </a:xfrm>
          <a:prstGeom prst="leftArrow">
            <a:avLst>
              <a:gd name="adj1" fmla="val 61454"/>
              <a:gd name="adj2" fmla="val 82533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152280" y="6095880"/>
            <a:ext cx="1295640" cy="609840"/>
          </a:xfrm>
          <a:prstGeom prst="leftArrow">
            <a:avLst>
              <a:gd name="adj1" fmla="val 61454"/>
              <a:gd name="adj2" fmla="val 825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52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EKAWE MIEJS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304920"/>
            <a:ext cx="2971800" cy="2133360"/>
          </a:xfrm>
          <a:prstGeom prst="horizontalScroll">
            <a:avLst>
              <a:gd name="adj" fmla="val 915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838080"/>
            <a:ext cx="56386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SKINIA NIEDŹWIEDZ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tno  k/Stronia Śląskiego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a z najpiękniejszych pod względem szaty naciekowej jaskiń Polski. wraz z przewodnikiem spacerować labiryntem korytarzy, podziwiając unikalne stalaktyty i stalagmity, kaskady i draperie kalcytow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ZEUM PAPIERNIC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zabytkowym młynie papierniczym z 1605 r. zwiedzić można jedyne w kraju ekspozycje dotyczące historii papiernictwa śląskiego, polskiego i światowego oraz technologii papiernictwa współczes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ŁĘDNE SKAŁ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jemniczy labirynt skalny, który przemierzyć można tylko wzdłuż szlaku turystycz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CZELINIEC WIELK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inając się po kamiennych schodach z Karłowa zdobyć można wierzchowinę najwyższego szczytu Gór Stołowych (919 n n.p.m.). Trasa zwiedzania prowadzi między piaskowcowymi formami skalnymi (posiadającymi własne nazwy utworzone od ich charakterystycznych kształtów) i głębokimi szczelinami - dochodzącymi do 17 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HOMA SZOPK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większa szopka na Ziemi Kłodzkiej, której twórcą był miejscowy ślusarz L. Wittig. W ciągu 28 lat wyrzeźbił on ok. 800 figurek z drewna lipow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2362320"/>
            <a:ext cx="2971800" cy="2133360"/>
          </a:xfrm>
          <a:prstGeom prst="horizontalScroll">
            <a:avLst>
              <a:gd name="adj" fmla="val 915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419720"/>
            <a:ext cx="2971800" cy="2133360"/>
          </a:xfrm>
          <a:prstGeom prst="horizontalScroll">
            <a:avLst>
              <a:gd name="adj" fmla="val 915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248520" y="609480"/>
          <a:ext cx="2286000" cy="153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609480"/>
                    <a:ext cx="22860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248520" y="2666880"/>
          <a:ext cx="2286000" cy="154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2666880"/>
                    <a:ext cx="228600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248520" y="4800600"/>
          <a:ext cx="2361960" cy="1486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00600"/>
                    <a:ext cx="2361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>
            <a:hlinkClick r:id="rId13" action="ppaction://hlinksldjump"/>
          </p:cNvPr>
          <p:cNvSpPr/>
          <p:nvPr/>
        </p:nvSpPr>
        <p:spPr>
          <a:xfrm rot="10800000">
            <a:off x="4266720" y="6095880"/>
            <a:ext cx="1295640" cy="609840"/>
          </a:xfrm>
          <a:prstGeom prst="leftArrow">
            <a:avLst>
              <a:gd name="adj1" fmla="val 61454"/>
              <a:gd name="adj2" fmla="val 82533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EKAWE MIEJS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52280" y="6095880"/>
            <a:ext cx="1295640" cy="609840"/>
          </a:xfrm>
          <a:prstGeom prst="leftArrow">
            <a:avLst>
              <a:gd name="adj1" fmla="val 61454"/>
              <a:gd name="adj2" fmla="val 825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28600"/>
            <a:ext cx="2971800" cy="3276720"/>
          </a:xfrm>
          <a:prstGeom prst="horizontalScroll">
            <a:avLst>
              <a:gd name="adj" fmla="val 737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581280"/>
            <a:ext cx="2971800" cy="3124440"/>
          </a:xfrm>
          <a:prstGeom prst="horizontalScroll">
            <a:avLst>
              <a:gd name="adj" fmla="val 663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762120"/>
            <a:ext cx="5334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RÓD BAJEK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żółtym szlaku turystycznym, 30 min. od Międzygórz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katowa kraina wyrzeźbionych bajkowych posta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eśnych domów, leżąca ponad wodospadem na wysokości 780 m n.p.m. Twórcą był Izydor Kriestan, który przez 20 lat tworzył swoje dzieło w hołdzie baśniom i Duchowi Gór - Liczyrzepie. Po odnowieniu Ogród jest bardzo chętnie odwiedzany przez najmłodsz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743200"/>
            <a:ext cx="4876560" cy="3124080"/>
          </a:xfrm>
          <a:prstGeom prst="horizontalScroll">
            <a:avLst>
              <a:gd name="adj" fmla="val 681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400800" y="609480"/>
            <a:ext cx="19162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1143000" y="304812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6553080" y="3886200"/>
            <a:ext cx="1768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7:20:02Z</dcterms:created>
  <dc:creator>Woś</dc:creator>
  <dc:description/>
  <dc:language>en-US</dc:language>
  <cp:lastModifiedBy>Woś</cp:lastModifiedBy>
  <dcterms:modified xsi:type="dcterms:W3CDTF">2003-06-27T17:36:55Z</dcterms:modified>
  <cp:revision>19</cp:revision>
  <dc:subject/>
  <dc:title>Prezentacja programu PowerPoint</dc:title>
</cp:coreProperties>
</file>